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4A7-A9AF-408C-88F3-14011309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39B-5DF3-4626-A071-7074992C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C0BF8-B27E-49EE-964F-19732471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CDBFF-E71F-486A-84C7-0BE30F55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4F608-F16D-4D47-A391-E918588E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A72C7-2EE1-4BA6-B46E-4B6D575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4F3BE-DB80-4FBC-93D7-B5225A02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D2404-3842-4B81-A6A0-35030AEE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A5ADE-A285-4D68-A903-7D386B3B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80524-8C81-40B3-A54B-1D83C612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765CF-ADFA-4BE4-8712-5AFD862E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152-6BAF-421A-9445-D28A917A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208-06E5-41DB-8C89-89162448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17CD-D303-4AC5-A2A3-D253D900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13D9-0697-46C0-B9BB-DA289D54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3D36-0CDF-4349-A4CF-73EEEF08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38CF-39C2-4337-A43E-2A44FC65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D1D7-8B2C-41D7-A07A-05C3D36C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D174-AFCD-4D84-BC62-91B1A1D1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5649-1CC3-4FAE-BD65-F6E28359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8A77-CA11-482D-A9AC-5E9FBF6B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59E8-B7E6-4596-897E-79E660D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D866-86C8-4A12-8C5A-E8172788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0E5F-1C33-4E78-BE68-BB830909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6EF0-12E2-40B2-AE13-945C0248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5328-CADA-4C31-AB85-7106B979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1869-1858-40EC-8001-CEF4A62C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2E16-7543-444F-A21E-D3B073A7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51F6-D12E-42B7-A158-52B8709C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E7BC-A0ED-4832-90A1-655DB338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DD355-D705-4FF3-8A44-36BE8DA2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A19-C6B4-41EB-ACBB-1F1AE4C1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B548-1969-485D-A015-716C139C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D6AB-8DF7-4CF6-B831-279C7507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7DF7-D10C-48A4-8DAA-014F708D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02573-056D-4A00-A24A-F5E07BEA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5E6D-BF99-497F-8505-161EDFF8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8D7F-3F97-4A78-9EA0-D26F1573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1554-73A5-4944-9726-4B0E5684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B2DE8-6454-4B47-8F04-49C22337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6C3A-2927-409D-89CA-CE4BE64B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A670F-1FC8-4584-8B79-DD8EE1F5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A452-2E3B-4E51-B0CE-B5A6804B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1D376-B01B-4F88-AEEF-2F8F4375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551D-A6F6-42B4-9E21-65C960C9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58142-597B-4737-B7FE-B4281C99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B958E-537D-49FD-AB69-6AB123B9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60A9A-1EFF-4939-8DC6-A43DEE9C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902AA-81CD-4188-A9BB-65AD0EC6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93817-74D5-41BD-AECF-81741F4A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A4D2-218B-436D-9B2F-6210617F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AD493-282C-43C0-9656-E7DD376D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2BEB-A205-4DB5-9B17-809AC59F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89B-9078-417B-8D7B-E5960C66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C2E44-3D13-4127-B65A-FA4562C8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3BBE-15B7-4E8A-A219-F8A9FFD6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AD0CB-B48C-4D9D-AA0E-3D7E4B7C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F5D30-228A-4217-9860-B78BFE7D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4B9E-EBF2-4993-B51A-CFF3CBC9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073C7-2FB1-4ACB-9508-D8ED2AB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5574-4AAC-47A2-9108-F8C74869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DF133-F6D9-4377-97E1-12A73DDD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FB48C-383C-48F0-AFFA-46A914AC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9C94-55BD-4517-B2F0-A649F35D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20B-6981-4950-84B8-2FB1E4BD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B41D7-19B4-4804-B875-857E398B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24D3B-6E96-45A2-AB9C-EB127058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E3B59-3512-428C-BE29-83EB5FA2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BDF94-D5F4-4547-B21C-6B754E98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9E3BF-96C2-477C-8BEB-D7165018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06560-7B1B-4675-AEF7-FF8716B1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31F3F-1771-4C35-8BD4-0B1D646A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8579E-39B8-4CC8-BB2C-7B09F58E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E1A36-1074-4192-B2F3-748DE31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55A2C-6ACE-4E89-9AD6-BE3E6AC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AB7-548E-4DDC-A90C-12DF5741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A432-65EA-495D-94B5-D6DC2CFC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3C1E5-267C-474B-89EB-A24FDE82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E147B-6C8F-42D6-85F3-FB48742E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659AE-E0F7-4BDD-9F54-624FFE60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4FFC3-5728-43C8-8EC3-94ADE16B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BD120-83C5-4826-86A3-6FEDD568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92FA2-D262-4620-9ED0-0921682C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8BFAB-8CF9-432B-9E59-7926706A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B3A3-2F85-445C-A707-05C37411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9A013-A1AD-4107-9E79-FA45A58D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776-1B7A-468D-8FAE-E4550ACF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0F86D-6A86-424F-A381-DA5A6CBD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6AF51-E346-4DE5-8FD2-B765EDD7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2933B-B54A-46EA-AC76-50822875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76F59-C048-41FE-8E4C-B7ED69A8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B5EB-72CC-43DD-85D2-50FF958E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83DEF-1BE6-4F3B-A8EF-2F3A3D38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55B4E-17B0-4B96-901B-1115D8BE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3468C-AC64-476B-A2F1-0E1DA5AB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2B703-8BE0-447D-A572-D15A38C0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7D863-8F3E-4B9B-84C7-D183E603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5B0-2B5A-4456-BD4C-15DC0049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EFD32-B340-4650-8890-544C3AF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099BE-5E76-4672-AA14-B96A335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95606-059B-4DF3-AA12-F9F3B295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29419-4FB8-4939-9D75-8C34E14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53DDD-D280-47CF-96B5-09DB24C5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590A2-8300-446A-93F8-9690D753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2E0D9-A744-4F19-BBC5-772EE590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3023C-0F5F-41DF-9366-C807DEAF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21B26-2C17-42D7-B7D5-3AE2519B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4800E-6359-4D46-BF56-7CBC927B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4552-5A69-483A-A5BD-7F2D7C025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AB83-2ABC-45A4-9EA6-A077F3456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B7E3-6149-4155-A742-E0D40756C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Harlow Solid Italic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FD76-4D95-42BC-977D-14682B2D8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C366-BF16-4765-B9F6-01AD3C1E5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95D0-FF5F-4893-8AEB-A7F4C0D01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0617-CCED-46D2-84FF-4F0230EDA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FFDE-B4F5-46E4-AAEA-0E28122A2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7B1E-5CC4-44F2-85D9-67A7F54D9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Bleeding Cowboys"/>
              </a:rPr>
              <a:t>Chapter 15 Review</a:t>
            </a:r>
            <a:endParaRPr b="0" lang="en-US" sz="60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eeding Cowboys"/>
              </a:rPr>
              <a:t>December 12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1) What is a subliminal message?  How does it differ from a supraliminal message?  Give examples of subliminal messages in daily life in your answer. 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807732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liminal message is one that is processed without conscious awar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liminal messages exist above the threshold of consciousness and are adequate to evoke a response or induce a sensation that is consc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2) The three types of subliminal messages are: embedded images, sub-audible messages, and electronically altered signals.  Describe each one and give examples. 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mages: words or pictures that are shown for only a few hundredths of a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audible messages: so faint that they can’t be heard, or played at such high frequencies that the human ear cannot detec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ally altered signals: backward masked messages and voice al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3) Describe some of the flaws in subliminal research. 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tudies have employed a double-bind procedure (in which neither the experimenter or the participant know which is subliminal, which is no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o not use contro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4) Music plays an important role in advertising and sales.  Describe some of the ways it is used .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g lyrics can be persuasive, through the central route (Petty and Caciop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music can persuade via the peripheral route (P and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 the products’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exposure (mere exposure hypoth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emonic device (via jing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5) Describe some of the effects of background music.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affect the atmosphere of a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regulate the pace of the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influence m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affect task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s in an up-tempo environment are more prod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verts scored lower than extroverts on comprehension tasks with background 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Harlow Solid Italic"/>
              </a:rPr>
              <a:t>6) Describe the connection between smell and persuasion. </a:t>
            </a:r>
            <a:endParaRPr b="0" lang="en-US" sz="3200" spc="-1" strike="noStrike">
              <a:solidFill>
                <a:srgbClr val="1c1c1c"/>
              </a:solidFill>
              <a:latin typeface="Harlow Solid Ital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rance can influence att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rances can sidetrack people’s thought processes, making them more emotional and less r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rance can influence m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ant scents can increase task compl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ell can also influence consumer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6:24:31Z</dcterms:created>
  <dc:creator>nuhs</dc:creator>
  <dc:description/>
  <dc:language>en-US</dc:language>
  <cp:lastModifiedBy>nuhs</cp:lastModifiedBy>
  <dcterms:modified xsi:type="dcterms:W3CDTF">2007-12-12T17:47:47Z</dcterms:modified>
  <cp:revision>5</cp:revision>
  <dc:subject/>
  <dc:title>Chapter 15 Review</dc:title>
</cp:coreProperties>
</file>